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move the slide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91191-9547-4C13-AAF4-6744E207D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60960-DE23-41CD-8627-14C94B2DF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DFE-9950-436A-92B2-64290CF9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D4D-CA28-47D9-899F-456AA8DB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1DA0A-48CC-4756-BB02-3814A9E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E31B-C1C2-44E3-B38C-44F54D5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3027-6220-42DD-99A9-E31BF1F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3AA7C-252E-4795-9F54-5FD470D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3DCF3-DDDB-4247-8A0F-3584C50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D7789-FB20-4BAD-8628-D4E62322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6AA2-E80B-48AC-8288-55CA106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8332-4EEA-4222-8DE1-1839D7EC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32594-8946-4DDD-8D83-0BDCAD7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1764-24FD-4B35-86EF-6017E38F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BBA-49FF-4170-BACC-AC560DF0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6705F-68BC-4FFB-8C26-353AB16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64F3F-7329-445E-8E53-3AED2D46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3B13A-E2A8-4AE2-8F61-B8455C6D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EA352-F27E-424D-AF3D-C489CE4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D26A5-0013-4325-82B8-70E227E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3ED43-F415-4563-9D93-221A1AA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41D36-7484-409B-AE24-FA85C24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06056-352D-4D6B-B3B7-F32843C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03A7-46AF-4454-8006-428DC44D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9896B-85A0-4AC2-B828-F3BA725F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1CC-62F7-47D5-BB8B-54920B2E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D4E24-F5B4-402E-A3B5-2F6F010D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31A5E-C4EF-4C24-8325-788E821D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34BA9-113C-46EC-B0CB-FA6501A8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3D715-73FB-44C8-92C9-597F25F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07161-B3BA-44A9-9B28-7CD88F4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63B8D-F1FD-49FE-8611-F057A300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D2FBB-3473-4947-95E1-8022DF5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02D5E-4F23-4DA0-BAE2-066589B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CB48-ABA3-4C85-BEEB-9BE9BFA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DB331-809A-4A97-B3AC-6A26EDA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1437-8EE8-4E79-B83D-A38C038B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B3C6D-B1C3-4397-973F-A404F9C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70FE-45A3-4092-9F9D-165FCDE2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639A-1F1D-4A28-BD53-485DE64B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D279-3C3F-4AE8-B4AA-60A689A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A0B6-ED87-4305-BFB5-F95D6BE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A9F-A5D6-4CB7-9399-7A2D464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D7FF-582F-44C7-8CA1-2507177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4970-8924-4836-9DAB-A3CB6B6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8CDD-F644-4EA8-92F3-AAB1723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F4C-6F02-465E-9E54-8086898E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4301-CAE1-435D-85A2-7E65C011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5FF-BC60-4F59-880D-B706456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D4C8-9370-4AB1-BFA3-6B2F6FFB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786-F504-4A24-ADAD-1250E268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F15C-CCB5-4FBA-9B49-AA857A84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7EBA-2E04-47CD-88BD-783848A4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1426-4B3F-41DD-B841-087150D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C995-E386-4651-8C18-9DC4FBA0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ECAE-4449-438C-B233-AE311C9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2CE9-3CC7-4757-AA62-259CD8C3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083-8E14-4483-8763-635643AB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FE08-F334-4EDC-8088-34C8736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D5A7-137D-4E4F-9AFE-BF5BFD6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A3F5-2C39-4D76-8522-907426F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20C9-311E-436F-818D-FE4732D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2DA1-0E8F-46EC-B396-A38FD5E9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A13B-8FA4-4819-9A38-CB71951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4B5C-F5E6-4804-BD16-426EB41F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0D90-F19F-4A2A-8DC9-F916B7EE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9D58-53BF-4F5E-843E-03C91B39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E0B1-4E0E-41AA-ABC5-8E42836F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27B-AED6-4334-9F11-4A52C86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5750-7370-4E91-81C8-1AB66C4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AA19-686A-42AD-8C65-BA0142E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5504-39D8-4D2A-B4DE-9A68904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D452E-2A48-4A14-A928-CD32AE4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429E-9B39-4D57-B059-32623B3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3B2E-8244-4C10-A46B-15A15C2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8B41-0C16-402D-8485-82221D6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BBFE-4124-4AD2-BA5E-199E995A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76985-D3B7-4737-A40B-08439186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03BE-1585-48C7-A104-42CBA735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455-ADDA-4564-A7AA-C9575B40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FA32-F2C3-4465-AFD9-575A22F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5E7B-2F31-4F47-BCF6-3CC5B525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94BE-A331-4BFF-A56C-86F3F17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D603-82D5-433F-8D93-5C951E80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B711-7A3B-46EE-BA86-CA7179D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468E-1D75-4CFB-9FCD-0FE0D33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E1C07-2517-4AB9-9F14-B38CE24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3058-1D35-40CE-B296-7B857B1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BB3F-A936-4916-8584-491824E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C82A-9649-4265-99DB-5D192D4D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C1C-BEE5-4D5C-8F4F-0DB588C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0FCD5-89E6-48ED-8396-7E6AAA81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C82A-579A-4AAB-9DB3-1A9B7391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8BDA-436A-4149-BEFD-098CBAE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AFB2-F5D3-4980-B30F-169E871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1B4C5-E749-402F-86E7-F85420B3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5CA0-E3DF-4D5F-B2FC-1A8362FD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7A610-0160-46AA-9AAB-D9A2DFF0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0165-B474-43C0-B2ED-5F0FD03E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84F9E-B239-415B-A6EF-C84E04D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32F7-13AB-41D8-B1DE-F800B06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A21-39DE-4E56-BF67-E1CD512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F0D6-587E-43DD-AB46-61EE551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97E6-3F3F-429C-80BF-91809960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0B2CC-F0AB-46AF-8828-3A749A49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34F2E-6D8F-492C-BE89-9D13B284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EB76-035D-4549-B630-48A5404E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E7BBD-218E-481F-A533-B4A1E48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6F3B-88ED-4F49-A0A5-25DE8BD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A6FC-6E94-4880-A731-82153EC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AB06-66E7-4D1F-8555-A66FAC9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54B7-EDDD-43CD-B7C7-CC20ADA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903-410C-4B52-B5A7-975030C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2B98-4882-4132-82F5-0419F25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4AB75-78DF-4D34-8E25-C3C57F1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C0C4-7E71-4805-98FB-E230A35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E9C8A-00C7-44FF-8D21-BF8D0A82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585D-232D-459F-9212-570C3FC4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4E57-5755-45B4-93C1-F7F4F39E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0A58-336F-4F29-9F61-D62B45B0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1812-274B-4DC6-BA94-F202B819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18124-80D8-40F9-B8B4-7618782F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E044-9CBF-4359-86DA-0A3C9D5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AC3-877C-4E13-B477-AE50FD2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261800" y="293760"/>
            <a:ext cx="969156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007B7-248C-4942-AAA2-58D19D6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E212-1E96-47AF-95A7-F6C6BB7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F984-62EF-43C8-8222-0D21A50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74FE-F6F1-49D1-9364-3C61DA64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DFBB-4806-44EC-A499-47FF9918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D1F4-7310-43DD-8BA2-6F429B3B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09A1-542A-4131-BEC7-D77A0983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B457D-102D-49C7-8866-89A7B9EE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008B-549B-4B97-9577-8921C61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41323-91E4-403A-B373-48347A6F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D7088-3795-41E2-BBB8-647C397D08DE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339F7-A0D5-4C3B-A3C3-DCABD0C71173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57AB1-A6B2-4AD7-9BA4-6BCB9136677B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43D71-CACA-4EBF-A60A-204D8B5F5C5D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DBB3B-DB33-4E60-B494-734BDB00C7E6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07D9E-F4F9-43A9-99E9-852D688DAE72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1D57E-DE73-4F59-B558-417B239DDDE6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F26B4-36A8-494F-A866-838EEAABE6D0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E14FF-333F-43A9-BE3A-838239668827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a6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F05E3-B9FA-4927-81EF-38FB89FDF1B9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36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34817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4b39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4b39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ef8c6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37B95-355D-411C-BC5A-D2F238157DC3}" type="slidenum">
              <a:rPr b="0" lang="ru-RU" sz="3600" spc="-1" strike="noStrike">
                <a:solidFill>
                  <a:srgbClr val="ef8c6a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1800" y="758520"/>
            <a:ext cx="8148600" cy="40417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entury Schoolbook"/>
              </a:rPr>
              <a:t>Действия по сигналу гражданской обороны: «Внимание всем!»</a:t>
            </a:r>
            <a:endParaRPr b="1" lang="en-US" sz="6500" spc="-1" strike="noStrike">
              <a:solidFill>
                <a:srgbClr val="d34817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3" descr=""/>
          <p:cNvPicPr/>
          <p:nvPr/>
        </p:nvPicPr>
        <p:blipFill>
          <a:blip r:embed="rId1"/>
          <a:stretch/>
        </p:blipFill>
        <p:spPr>
          <a:xfrm>
            <a:off x="428760" y="388800"/>
            <a:ext cx="108694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262160" y="1377720"/>
            <a:ext cx="92469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78408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омашнее задание: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262160" y="1404720"/>
            <a:ext cx="93009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анализировать ситуационную задачу: «Произошел выброс аварийно- химически опасного вещества (хлора)». Ваши действия.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25600" y="321840"/>
            <a:ext cx="9693360" cy="139716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4817"/>
                </a:solidFill>
                <a:latin typeface="Century Schoolbook"/>
              </a:rPr>
              <a:t>Спасибо за внимание</a:t>
            </a: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!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rcRect l="0" t="34627" r="49206" b="0"/>
          <a:stretch/>
        </p:blipFill>
        <p:spPr>
          <a:xfrm>
            <a:off x="1531800" y="2374920"/>
            <a:ext cx="4637160" cy="4483080"/>
          </a:xfrm>
          <a:prstGeom prst="rect">
            <a:avLst/>
          </a:prstGeom>
          <a:ln w="0">
            <a:noFill/>
          </a:ln>
        </p:spPr>
      </p:pic>
      <p:sp>
        <p:nvSpPr>
          <p:cNvPr id="502" name="Овал 4"/>
          <p:cNvSpPr/>
          <p:nvPr/>
        </p:nvSpPr>
        <p:spPr>
          <a:xfrm>
            <a:off x="3274920" y="3630600"/>
            <a:ext cx="204840" cy="136440"/>
          </a:xfrm>
          <a:prstGeom prst="ellipse">
            <a:avLst/>
          </a:prstGeom>
          <a:solidFill>
            <a:srgbClr val="000000"/>
          </a:solidFill>
          <a:ln w="140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Рисунок 6" descr=""/>
          <p:cNvPicPr/>
          <p:nvPr/>
        </p:nvPicPr>
        <p:blipFill>
          <a:blip r:embed="rId2"/>
          <a:stretch/>
        </p:blipFill>
        <p:spPr>
          <a:xfrm>
            <a:off x="4021200" y="3484440"/>
            <a:ext cx="21888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1800" y="281160"/>
            <a:ext cx="9691560" cy="9014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Задачи урока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262160" y="1828440"/>
            <a:ext cx="903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акими способами производится оповещение населения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учить действия по сигналу: «Внимание всем!»</a:t>
            </a:r>
            <a:endParaRPr b="0" lang="en-US" sz="36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8316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Средства оповещения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pic>
        <p:nvPicPr>
          <p:cNvPr id="483" name="Объект 4" descr=""/>
          <p:cNvPicPr/>
          <p:nvPr/>
        </p:nvPicPr>
        <p:blipFill>
          <a:blip r:embed="rId1"/>
          <a:stretch/>
        </p:blipFill>
        <p:spPr>
          <a:xfrm>
            <a:off x="1262160" y="1463760"/>
            <a:ext cx="93582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1800" y="185400"/>
            <a:ext cx="9691560" cy="701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4817"/>
                </a:solidFill>
                <a:latin typeface="Century Schoolbook"/>
              </a:rPr>
              <a:t>Действия при звуке сирены</a:t>
            </a:r>
            <a:endParaRPr b="1" lang="en-US" sz="44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261800" y="1023840"/>
            <a:ext cx="99154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ается общий сигнал «Внимание всем!» – звук сирены или прерывистые гудки предприятий, – а затем следует информация о характере угрозы и конкретные рекомендации по защите и действиям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ключите полную громкость приемника радиовещания или включите телевизор на любой местный новостной канал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 каналам телевидения и по радио будет передаваться речевая информация о сложившейся обстановке и порядке действия населения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ностью прослушав и поняв речевую информацию, необходимо выполнить все рекомендаци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первую очередь необходимо взять документы, деньги и по возможности запас еды и питьевой воды на сутк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забирайте детей из школы и детского сада. Это может задержать их отправку в безопасные места. О Ваших детях есть кому позаботиться. Их защита предусмотрена в первую очередь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 marL="457200" indent="-457200"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информируйте соседей по подъезду и месту жительства — возможно, они не слышали передаваемой информации. Пресекайте немедленно любые проявления паники и слухи.</a:t>
            </a: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5936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1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261800" y="1023840"/>
            <a:ext cx="969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судоремонтном заводе произошла утечка радиации из ядерного отсека подводной лодки. Радиоактивное облако движется в сторону населенного пункта. В городе объявлен режим чрезвычайной ситуации и звучит сигнал «Внимание всем!» Сообщение о ЧС застало вас на улице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зовите средства необходимые по сохранению и защите своего здоровья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1800" y="293760"/>
            <a:ext cx="9691560" cy="139680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сигнал застал вас на улице:</a:t>
            </a:r>
            <a:br>
              <a:rPr sz="4000"/>
            </a:b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2160" y="845640"/>
            <a:ext cx="8594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Прослушать экстренное сообщение, передаваемое уличными громкоговорителями и подвижными средствами оповещения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Действовать в соответствии с переданным сообщение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Объект 3" descr=""/>
          <p:cNvPicPr/>
          <p:nvPr/>
        </p:nvPicPr>
        <p:blipFill>
          <a:blip r:embed="rId1"/>
          <a:stretch/>
        </p:blipFill>
        <p:spPr>
          <a:xfrm>
            <a:off x="1262160" y="69840"/>
            <a:ext cx="945828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66204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Ситуационная задача 2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261800" y="1091880"/>
            <a:ext cx="96915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 находитесь в частном доме, рядом с красивой полноводной рекой. Ещё днём пошел сильный дождь, который к вечеру только усилился. Возникла угроза затопления местности. В 3ч 15мин Вы проснулись от звука сирены оповещения. Вода быстро прибывает и начинает затапливать дом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пишите дальнейший алгоритм Ваших действий в сложившейся ситуации.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ьте, что вы собираете рюкзак для экстренной эвакуации. Что Вы с собой возьмете? Дайте краткое пояснение необходимости каждого предмета. </a:t>
            </a:r>
            <a:endParaRPr b="0" lang="en-US" sz="28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1800" y="293400"/>
            <a:ext cx="9691560" cy="1003320"/>
          </a:xfrm>
          <a:prstGeom prst="rect">
            <a:avLst/>
          </a:prstGeom>
          <a:noFill/>
          <a:ln w="0">
            <a:noFill/>
          </a:ln>
        </p:spPr>
        <p:txBody>
          <a:bodyPr tIns="273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entury Schoolbook"/>
              </a:rPr>
              <a:t>Если наводнение застало вас внезапно:</a:t>
            </a:r>
            <a:endParaRPr b="1" lang="en-US" sz="4000" spc="-1" strike="noStrike">
              <a:solidFill>
                <a:srgbClr val="d34817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61800" y="1446120"/>
            <a:ext cx="95742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ыстрее занять возвышенное место и быть готовым к эвакуации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нять меры к подаче сигналов;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d3481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безопасном месте нужно находиться до спада воды, самоэвакуацию можно проводить только в случае реальной угрозы вашей жизни.</a:t>
            </a:r>
            <a:endParaRPr b="0" lang="en-US" sz="3200" spc="-1" strike="noStrike">
              <a:solidFill>
                <a:srgbClr val="59595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7T13:15:11Z</dcterms:created>
  <dc:creator>el4467930@gmail.com</dc:creator>
  <dc:description/>
  <dc:language>en-US</dc:language>
  <cp:lastModifiedBy>sch10-17</cp:lastModifiedBy>
  <dcterms:modified xsi:type="dcterms:W3CDTF">2025-09-24T09:29:42Z</dcterms:modified>
  <cp:revision>12</cp:revision>
  <dc:subject/>
  <dc:title>Действия по сигналу гражданской обороны: «Внимание всем!»</dc:title>
</cp:coreProperties>
</file>